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70664"/>
        <c:axId val="13380811"/>
      </c:barChart>
      <c:catAx>
        <c:axId val="36270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80811"/>
        <c:crosses val="autoZero"/>
        <c:auto val="1"/>
        <c:lblAlgn val="ctr"/>
        <c:lblOffset val="100"/>
        <c:noMultiLvlLbl val="0"/>
      </c:catAx>
      <c:valAx>
        <c:axId val="13380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70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53D-1D67-4A5D-9A38-3806154F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246-33FD-48C5-8218-5A2BE02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24E-D605-4547-9079-B63F1ECC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066-BB98-4433-9790-569BAE13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33D-1D8D-44FB-94AE-48F254A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90E-2BE7-4CC0-8484-23D4143D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93D-97D4-4459-B395-3FA027BC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4EB-64BC-4BE3-A8FF-83BC94E9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965-FDA0-4612-A905-19DFA766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B67-E611-4E7B-B7F1-AA2DDED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C34-621F-436B-935F-46F9B26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30D-E57E-40AF-9913-549CF6D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C5E7F-4FA4-4AA6-984D-E38AEE389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